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4B36-689C-418D-87C6-78626AAE3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CEC1-7057-44FF-B3A5-2DF1A3DBD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9FB3-8F6D-41D0-9BBC-51C5CF7C1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D50E-31EA-4EAD-BB52-B9039B286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B1E1-1A06-4E3F-903F-B616878AC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601E-20A3-4B02-81BD-2EDE33DD4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1E55-0EE6-4DC1-949B-2E51BEF11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C37B-E681-4EA3-8651-D9DA2CCC8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54D1-C2FD-4E4C-8FED-4AFFF9DD7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76EB-B863-483F-A8FA-40E52752C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2773-B6D9-4792-9E65-3027EFA66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1447-11F0-4A33-9739-1FE89C9CC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n Introduction to Meta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4FED5C53-FBA3-47FC-AFC7-F0455C78751B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University of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mg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n Introduction to Metamod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Principles &amp;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of Computer Scie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The University of York, Heslington, York YO10 5DD, Eng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cs.york.ac.uk/~pa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6515280"/>
          <a:ext cx="242568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152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7143-85FE-4358-9F70-0FFBEE8BE7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Requirements for UM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standard not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general purpose modelling language, initially for software, but now encompassing all of system modelling in all domains, using dialec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nables communicatio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(Presumably) Supported by too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able, user-friend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xtensibl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299F-EF4F-4836-A1B7-C6345C101C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inciples for Modell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implic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cur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rawable by tools and by han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adabil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lear syntax to enable identification of syntax err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uitable structures for solving relevant proble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Proof rules for features of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patterns from other language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niquene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nderlying simple mapping for semantics of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AC14-B1ED-4695-8D3D-C21C9301F0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raphical Syntax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ptured using a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general, you can capture th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abstract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syntax of a language and its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crete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yntax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bstract syntax is analogous to abstract syntax trees for programming languag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t conveys the essence of the syntax, and aggregate certain details that are less interesting (eg., syntax for a boolean expression language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n abstract syntax tree is usually heterogeneou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oncrete syntax captures all the gory detai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FEA1-C8A9-4C42-AD44-3A1F5BCCC1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Graphical Syntax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general, this can be expressed in a suitably expressive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existing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graphical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hen the semantics of the existing graphical language influences (or even defines) the semantics of the new languag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ever, UML is the standard modelling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o UML’s graphical syntax is defined in 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ootstrapping proble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his is why MOF/CWM have been introduced – you need to assume some axioms somewhere!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5B19-6C68-4D7A-96AE-6F1ACDFD001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Examp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bstract Syntax for UML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bstract Syntax for OCL 2.0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ee formal specifications available at </a:t>
            </a:r>
            <a:r>
              <a:rPr b="0" lang="en-GB" sz="25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omg.org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ork through parts of these specifications and explain some of the modelling concep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otice the recurring use of certain patterns, e.g., Composit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16B1-ECA5-4010-BE43-2A09C02F8CB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 v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model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nforms to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r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complies with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the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You can also think of a model as an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of a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us, wrt the UML metamodel, a class is an instance of a ModelElement and a Classifi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t is usually helpful when drawing these things to think carefully about what level you’re working i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B2B6-B69C-4A2F-9131-CC6EE0608A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 Conform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L = (n:Notation, m:Metamodel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etamodel = Syntax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Semantic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Semantics = Single_View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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Cross_Cutting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For any model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notation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n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onforms(m,L)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= </a:t>
            </a:r>
            <a:r>
              <a:rPr b="0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Metamodel </a:t>
            </a:r>
            <a:r>
              <a:rPr b="0" i="1" lang="en-US" sz="2100" spc="-1" strike="noStrike">
                <a:solidFill>
                  <a:srgbClr val="000066"/>
                </a:solidFill>
                <a:latin typeface="Symbol"/>
                <a:ea typeface="Symbol"/>
              </a:rPr>
              <a:t>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 m </a:t>
            </a:r>
            <a:r>
              <a:rPr b="1" lang="en-US" sz="2100" spc="-1" strike="noStrike" u="sng">
                <a:solidFill>
                  <a:srgbClr val="000066"/>
                </a:solidFill>
                <a:uFillTx/>
                <a:latin typeface="Comic Sans MS"/>
              </a:rPr>
              <a:t>sat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c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If </a:t>
            </a:r>
            <a:r>
              <a:rPr b="1" lang="en-US" sz="2100" spc="-1" strike="noStrike">
                <a:solidFill>
                  <a:srgbClr val="009900"/>
                </a:solidFill>
                <a:latin typeface="Courier New"/>
              </a:rPr>
              <a:t>!conforms(m,L)</a:t>
            </a:r>
            <a:r>
              <a:rPr b="1" lang="en-US" sz="2100" spc="-1" strike="noStrike">
                <a:solidFill>
                  <a:srgbClr val="00cc99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 this means that there is an inconsistency in the model </a:t>
            </a:r>
            <a:r>
              <a:rPr b="0" i="1" lang="en-US" sz="2300" spc="-1" strike="noStrike">
                <a:solidFill>
                  <a:srgbClr val="000066"/>
                </a:solidFill>
                <a:latin typeface="Comic Sans MS"/>
              </a:rPr>
              <a:t>m.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-496080"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Can also handle uncertainty, i.e., omission of essential information in the model.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lvl="1" marL="850320" indent="-42516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general, uncertainty leads to instantiations of the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sat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elation that cannot be discharg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96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4E01-8717-4B2E-9477-67C44A404D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OMG’s Pyramid Diagra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3210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3276720"/>
            <a:ext cx="75438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The UML metamodel is at the M2 level (the meta-level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A specific UML model is at the M1 level (the model level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Comic Sans MS"/>
              </a:rPr>
              <a:t>MOF is at the meta-meta-level: it is the language in which other languages are defined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re is also an M0 level which is an object configuration (ie., a snapsho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7579-58D3-42AA-9D2D-A70A5BAEFF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emantic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Recall that UML’s semantics is loosely defined (at best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Suppose you want to know what the following diagram mea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Look at the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-506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ach class is an instance of Classifier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06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971800" y="2743200"/>
          <a:ext cx="31129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743200"/>
                    <a:ext cx="31129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A371-1DE9-4941-81B3-9626BD8C49A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s for Building 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Promotes understandability, deals well with reasonably large structures, CASE for drawing mode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meta-circularity, semantic checking, pre-existing semantic fragmentation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formal specification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avoids meta-circularity, existing proof system for semantic checking, possible to construct proofs of consistency/soundne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less understandable, expertise needed, transparency of the semantic mapping, backlash against F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ork has been done using Z, B, PVS, other FM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A342-0113-4A0A-97B1-0D7278E056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0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8EFC-FF00-4361-8F5D-89E1FA34947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s for Building 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n executabl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e.g., OCaml, Eiffel, JML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For: understandable, works in the small and in the large, pre-existing tools for compilation, metamodels can be tested and simulated easi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gainst: risk of losing abstraction level, need transparency of mapping from modelling language, ongoing misconception that programs and models must be written in different languag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8188-9F7D-4D40-8D70-6F69120C928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etamodell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controversial topic, and one that is currently critical within the UML/OMG/MDA commun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metamodel is just another model (e.g., written in UML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s are examples of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domain-specific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Other example domains: real-time systems, safety critical systems, e-busines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domain of metamodelling is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language definition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us, a metamodel is a </a:t>
            </a:r>
            <a:r>
              <a:rPr b="0" i="1" lang="en-GB" sz="2500" spc="-1" strike="noStrike">
                <a:solidFill>
                  <a:srgbClr val="000066"/>
                </a:solidFill>
                <a:latin typeface="Comic Sans MS"/>
              </a:rPr>
              <a:t>model of some part of a languag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ich part depends on how the metamodel is to be us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Parts: syntax, semantics, views/diagrams, ..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E8B5-D220-46DE-80E0-A6D70374B5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Uses for a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For defining the syntax and semantics of a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explain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compare languages rigorousl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specify requirements for a tool for the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specify a language to be used in a meta-tool (e.g., XMF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o enable interchange between too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0DFA-799A-4C31-AFB9-F61858BDF6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 would you go about designing a programming language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at sort of programs do you want to allow programmers to create? (ie., user requirements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a syntax (eg., EBNF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semantics using structural induction over the constructs of the language, e.g., what do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while, if, ;, etc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all mean?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a compiler and librari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supporting too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uild your killer app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doing so, you would follow well-known principles of programming language desig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9C9C-700A-4C02-A19A-CF06ABFC12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ogramm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primary purpose of a programming language (PL) is to help a programmer to write progra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e., language design is </a:t>
            </a:r>
            <a:r>
              <a:rPr b="0" i="1" lang="en-GB" sz="2000" spc="-1" strike="noStrike">
                <a:solidFill>
                  <a:srgbClr val="000066"/>
                </a:solidFill>
                <a:latin typeface="Comic Sans MS"/>
              </a:rPr>
              <a:t>not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 an exercise in and of itself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f the language gets in the way, then it’s not a good on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Other requirements, e.g., portability, stability, existing popularity, sponsorship by powerful organizations, should not be dominant fact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8D38-7A25-47F7-993F-6047AE6F6D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User Requirements for a P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should give assistance in expressing what a program should accomplish and how it should execut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will encourage and assist in producing self-documenting cod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o find out what a program does, you (ideally) will be able to look in one plac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PL will give assistance in finding erro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6218-521A-4479-8C17-9150FAB64F9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Principles of Programm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implicity is absolutely necessar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Otherwise how will the designer know the consequences of their design decisions?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Pursue this to the extreme!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ecurit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Fast generation of efficient cod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Readabilit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lear syntax to enable identification of syntax error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Suitable structures for solving relevant problem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Proof rules for features of the languag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se patterns from other langua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niquenes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D2A3-91B2-437B-9488-D89CDC2783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odelling Language Desig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How would you design a modelling language like UML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n theory, you would like to apply roughly the same process as one does with P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an we learn by analogy?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What are the user requirements for the graphical language?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the syntax for the graphical language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 the semantics for the graphical language via some analogy to structural induction over the syntax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Implement a compiler, tools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Build a killer app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Ideally, all done using well understood rules for visual language desig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E15C-6464-46D3-A5F6-693894B473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7:56Z</dcterms:modified>
  <cp:revision>86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